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1592F-13E4-4D94-9DEF-E4D2A80562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A204C-320B-4DED-B136-E6C9CCD8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27A7E-7C47-42B4-ABD0-A8AA3C0B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8DBB3-F657-499E-B461-3228E3E432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18CF1-22CB-49F9-916C-4E9A6927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460DD-6096-42D1-8246-47E9BC37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54DDE-1135-4B62-A17C-B38250BC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BB957-F3E3-4DF8-818A-D3063733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096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403C6-F351-4833-B3F2-404AF376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930F3-B745-4BC1-AC17-4B6E2173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A35E3-DA6B-41BF-B4F0-FFDE1106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408F6-779E-4D08-8E9A-E7C9188F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124760" y="5595840"/>
            <a:ext cx="2151000" cy="152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E94B9-5D06-420C-899A-4E8DF9C82175}" type="datetime">
              <a:rPr b="0" lang="en-GB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043A0-BBC2-4FC5-849F-BD365546EAE1}" type="slidenum">
              <a:rPr b="0" lang="en-GB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 fontScale="89000"/>
          </a:bodyPr>
          <a:p>
            <a:pPr marL="3052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1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2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3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4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5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6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14520" y="809640"/>
            <a:ext cx="80467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utura LT Book"/>
              </a:rPr>
              <a:t>What are Community Sha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Withdrawable share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Traditional (but forgotten) form for building co-operative and community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809640"/>
            <a:ext cx="6400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utura LT Book"/>
              </a:rPr>
              <a:t>The Community Shares Re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The need (and a business pl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The ability – legal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The crowd (and a plan to hook th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55560" y="809640"/>
            <a:ext cx="80265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Futura LT Book"/>
              </a:rPr>
              <a:t>Why they work for enterpris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Unregulated by F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Cheap to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Investment puts power in hands of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Invest to create the world you want to liv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‘</a:t>
            </a: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Potentially Repayable Philanthrop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Tax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Get 5-10 times what donations bring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725400" y="599760"/>
            <a:ext cx="784224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Futura LT Book"/>
              </a:rPr>
              <a:t>Some share issu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Sheffield TV – £160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 </a:t>
            </a: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Positive News – £263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Ethical Consumer – £200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FC United of Manchester - £2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Portsmouth FC - £2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Highwinds - £3.7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34680" y="809640"/>
            <a:ext cx="79945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Futura LT Book"/>
              </a:rPr>
              <a:t>Why they might work for 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Very strong global b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People cherish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Very large global supporter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Non-consumption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725400" y="599760"/>
            <a:ext cx="784224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Futura LT Book"/>
              </a:rPr>
              <a:t>How much could you ra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Positive News: 1525 investors from 33 countries, around 20% of subscriber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Average £172 (though 20% were offline, and offline average was £4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If NI had similar strike rate and average, sum of around £1 at lower end, £4M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25400" y="599760"/>
            <a:ext cx="784224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utura LT Book"/>
              </a:rPr>
              <a:t>Posi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561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b8b8b"/>
                </a:solidFill>
                <a:latin typeface="Futura LT Book"/>
              </a:rPr>
              <a:t>Selling ownership really has a value, especially to people who cherish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561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b8b8b"/>
                </a:solidFill>
                <a:latin typeface="Futura LT Book"/>
              </a:rPr>
              <a:t>The values behind a Community Share issue are the same values you have always been anima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utura LT Book"/>
              </a:rPr>
              <a:t>Neg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30000"/>
              </a:lnSpc>
              <a:spcBef>
                <a:spcPts val="561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b8b8b"/>
                </a:solidFill>
                <a:latin typeface="Futura LT Book"/>
              </a:rPr>
              <a:t>Current situation in which staff are in control would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25400" y="599760"/>
            <a:ext cx="784224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Futura LT Book"/>
              </a:rPr>
              <a:t>Potential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4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Could have Tageszeitung-style worker co-op jam in community-owned doughn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4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Could have pure multi-stakeholder co-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4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Positive News Charter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4T20:33:39Z</dcterms:created>
  <dc:creator>Dave</dc:creator>
  <dc:description/>
  <dc:language>en-US</dc:language>
  <cp:lastModifiedBy>Dave</cp:lastModifiedBy>
  <dcterms:modified xsi:type="dcterms:W3CDTF">2015-07-16T06:48:1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On-screen Show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8</vt:r8>
  </property>
</Properties>
</file>